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7AB-9F01-48F6-84A2-1AE98527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0C1-E420-4EF7-94C2-114B9F8A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B70-B65F-4B68-8462-FF854AE5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36F-455F-400C-90EC-EE25A930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AFEEA-797A-4A3B-B948-D21F0610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2AC83-D25B-4F86-96D2-50B331AE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6B0DB-3DD6-4AAB-A580-F51A2102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3C124-602E-4268-9A32-482940BD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95941-C366-454A-B847-C05587BB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88806-B2CF-47FD-A958-5B2C9E5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8745B-1EAE-40CD-A85A-C6CD1EE2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6F9-C7A0-4094-BFD2-D15BCD77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B4010-9117-42D7-A926-4A069C65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2696B-6BD9-4B53-8EDF-0BF3C892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D5608-B0EE-48EC-8463-6B098DDF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625C0-14D6-41D2-99A0-0AAB64C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F0D58-A143-41F1-9494-B0CF52D5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C53-D36B-4A45-93E6-7838A6BD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E52-F2FA-4B61-8FC9-5CE1D202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AEC-24B8-499C-BDC6-E411486E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C87-3D5C-4B1A-B7A9-106CC035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37E-4FBE-4B50-98B1-808DCEA8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BFA-6A9A-445E-B852-79B008B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42B-6588-423A-AD1D-3467507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BAB3-47B7-4D0F-8D95-325C5A3AAA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C42B-1C08-4E56-972D-DAFF818A8B6B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skerville Old Face"/>
              </a:rPr>
              <a:t>Strea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ber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y: Ahren McCutche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MC900198101[1]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373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900198101[1]"/>
          <p:cNvPicPr/>
          <p:nvPr/>
        </p:nvPicPr>
        <p:blipFill>
          <a:blip r:embed="rId2"/>
          <a:stretch/>
        </p:blipFill>
        <p:spPr>
          <a:xfrm>
            <a:off x="0" y="0"/>
            <a:ext cx="2133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Problems on th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re is one main problems that has happened to this 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problem is pollution of the water that runs all through the rivers and stre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http://2.bp.blogspot.com/_SpH7EL7jLqU/Swux64HJHbI/AAAAAAAAAGg/-cQecMBM2qE/s1600/river-pollution-pv.jpg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 on Organism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ver the past six years, the Humber River has been hit with 900 oil spills and 750 chemical spi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cteria levels haven't improved, fish habitat has deteriorated and summer water flows have decreas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there is pollution then the animals can’t live in the water and all the surrounding animals won’t be able to drink from the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would probably kill of the entire or at least most of this ecosystem if it got too b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irst the weaker animals would die off then there predators would d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ack of food would cause their predators to die and this chain would go on until something is done or until most or all of the animals d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How Humans Effect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are the ones that are dumping our garbage into the river and strea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so in more rural areas we would put the pesticides on the plants that would cause runoff into the ri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to the Probl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teps to helping clean up the river have already been taken but more help is need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we want to put the river back into the shape it was in before this was happening people al around Toronto will have to help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eople living near the Humber river have already volunteered to help clean it up but that is not enough peop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y solution is to get more people to help clean up the parts of the river that flow in Toronto because there are at least a million people that could help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other thing that contributes to the pollution problem is runoff from fa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y solution to this problem is to contol how much pesticide farmers can put on their cr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would help reduce the pollution going into th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 think that fresh water streams are a wonderful thing that I want to preserve so my grandchildren can s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can happen if we all look out for these ecosystems and if we all help clean them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re are many different solutions to the problems that have come up so it can be d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www.chrs.ca/Rivers/Humber/Humber_e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themaplescottages.ca/userfiles/image/lake%20trout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www.combat-fishing.com/SFWOzStreamMiddle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2.bp.blogspot.com/_SpH7EL7jLqU/Swux64HJHbI/AAAAAAAAAGg/-cQecMBM2qE/s1600/river-pollution-pv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ble of Content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me summa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osystems within the bi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w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 on animals by huma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ats and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interaction within the eco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ncl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me Summa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nada has the largest supply of freshwater of any country in the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freshwater biome has a wide range of organisms that live a sustainable lifestyle, whether they are aquatic or terrestr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salt concentration of the water is usually less than 1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quatic animals and plants that live there can only survive because of this concentr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an animal from this biome was moved to a marine biome it would die because it wouldn’t be used to that salt concentr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biome consists of many resources necessary for the survival of organisms within their 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ny different fish species live in this biome at this is one of our natural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http://themaplescottages.ca/userfiles/image/lake%20trout.jpg"/>
          <p:cNvPicPr/>
          <p:nvPr/>
        </p:nvPicPr>
        <p:blipFill>
          <a:blip r:embed="rId1"/>
          <a:stretch/>
        </p:blipFill>
        <p:spPr>
          <a:xfrm>
            <a:off x="533520" y="4952880"/>
            <a:ext cx="7619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cosystems Within the Bi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re are 5 main types of Ecosystems within the fresh water Bi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y are; ponds, creeks, rivers, lakes and the one I will be focusing on is stream Eco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 will be looking at one set of streams in particular and this will be in the Humber Ri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Introduction to my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Humber River is located extensively in southern Ontario between Georgian Bay and Lake Ontari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flows through the Greater Toronto Ar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s mouth is in Toronto and in the Etobicoke are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main part of the Humber River travels 100 km through a variety of natural habitats in both rural and urban landsca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Food We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http://www.combat-fishing.com/SFWOzStreamMiddle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22:07Z</dcterms:created>
  <dc:creator>User</dc:creator>
  <dc:description/>
  <dc:language>en-US</dc:language>
  <cp:lastModifiedBy>Lisa</cp:lastModifiedBy>
  <dcterms:modified xsi:type="dcterms:W3CDTF">2010-10-18T12:27:02Z</dcterms:modified>
  <cp:revision>33</cp:revision>
  <dc:subject/>
  <dc:title>Streams</dc:title>
</cp:coreProperties>
</file>